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168-8853-4A38-A001-DDA48C0F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468-A460-405E-BD59-63B05ACD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88D-BC25-42DC-A159-AE6BC9C9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7DF-49AB-4A44-A217-94D33298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48A-C79C-45AF-A9FB-D028C8A4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402-F1EA-4611-904F-CF37E04D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C33-9A85-41FA-BAC0-D594ED8C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EAF-D995-41FF-ACDC-30C7FEED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43E-1902-42DF-8247-A165B3E5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658-AA17-4331-8F09-524C96F7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53F-142A-4599-9D91-D8345221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960-E362-4CD5-BCB3-ED971AD0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7A1F-3D8C-40E3-98EB-9C65A36B11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ifty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ewelrymall.com/cgibin/xlinker.cgi?loc=123&amp;lf=123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jewelrymall.com/stones/moonstone.html" TargetMode="External"/><Relationship Id="rId4" Type="http://schemas.openxmlformats.org/officeDocument/2006/relationships/hyperlink" Target="http://www.jewelrymall.com/cgibin/xlinker.cgi?loc=137&amp;lf=137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jewelrymall.com/stones/moonstone.html" TargetMode="External"/><Relationship Id="rId7" Type="http://schemas.openxmlformats.org/officeDocument/2006/relationships/hyperlink" Target="http://www.enchantedlearning.com/usa/statesbw/newyork.shtml" TargetMode="External"/><Relationship Id="rId8" Type="http://schemas.openxmlformats.org/officeDocument/2006/relationships/image" Target="../media/image4.png"/><Relationship Id="rId9" Type="http://schemas.openxmlformats.org/officeDocument/2006/relationships/hyperlink" Target="http://www.enchantedlearning.com/usa/states/newyork/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postcardsfrom.com/t1/980605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50292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484020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kye K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10/17/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Period: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omputer #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762120"/>
            <a:ext cx="72388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7520">
                  <a:solidFill>
                    <a:srgbClr val="00ff00"/>
                  </a:solidFill>
                  <a:miter/>
                </a:ln>
                <a:solidFill>
                  <a:srgbClr val="00ffff">
                    <a:alpha val="92000"/>
                  </a:srgbClr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w York</a:t>
            </a:r>
            <a:endParaRPr b="0" lang="en-US" sz="1800" spc="1" strike="noStrike">
              <a:ln w="47520">
                <a:solidFill>
                  <a:srgbClr val="00ff00"/>
                </a:solidFill>
                <a:miter/>
              </a:ln>
              <a:solidFill>
                <a:srgbClr val="00ffff">
                  <a:alpha val="92000"/>
                </a:srgbClr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5638680"/>
            <a:ext cx="685800" cy="762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5257800"/>
            <a:ext cx="2133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York song: Fifty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w York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,25,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fiftystat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apital: Alb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Population: 18,976,4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ntered to Union: July 26, 17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otto: Excelsior (Ever upwa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Nickname: The Empir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lower: 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Bird: Blue Bi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ong: I Love New 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eaning Behind Name: Named After England York of Duk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01920" cy="297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62320" y="0"/>
            <a:ext cx="2743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welry Mall, Octorber18, 2011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http://www.jewelrymall.com/stones/moonston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24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on Stone is found is on New Y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97560" y="0"/>
            <a:ext cx="2746440" cy="3124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95680" y="1143000"/>
            <a:ext cx="1828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welry Mall, Octorber18, 2011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http://www.jewelrymall.com/stones/moonston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3200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urmaline Is also found in New Y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90920" y="3200400"/>
            <a:ext cx="358128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1148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72000"/>
            <a:ext cx="1828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hanting learning, October18,2011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http://www.enchantedlearning.com/usa/states/newyork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43434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6172200" y="4952880"/>
            <a:ext cx="2819520" cy="190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2514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p of New Y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562720"/>
            <a:ext cx="3504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hanted Learning, October18, 2011, http://www.enchantedlearning.com/usa/states/newyork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York's state fl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All images Copyright © 1997 - 2000 WriteLine. All Rights Reserved. Niagara Falls postcard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286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 width of Niagara Falls is  184 ft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01992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w Yor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,25,2011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postcardsfrom.com/t1/98060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457200"/>
            <a:ext cx="5334120" cy="342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4114800"/>
            <a:ext cx="4419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w Yor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,25,2011, http://www.postcardsfrom.com/t1/98060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ball Hall of Fame in New Y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All images Copyright © 1997 - 2000 WriteLine. All Rights Reserved."/>
          <p:cNvPicPr/>
          <p:nvPr/>
        </p:nvPicPr>
        <p:blipFill>
          <a:blip r:embed="rId2"/>
          <a:stretch/>
        </p:blipFill>
        <p:spPr>
          <a:xfrm>
            <a:off x="5029200" y="3962520"/>
            <a:ext cx="4114800" cy="2895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62720" y="1752480"/>
            <a:ext cx="2971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w Yor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10,25,2011, http://www.postcardsfrom.com/t1/98060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867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astle like structure in the capital of New York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09:10Z</dcterms:created>
  <dc:creator>install</dc:creator>
  <dc:description/>
  <dc:language>en-US</dc:language>
  <cp:lastModifiedBy>install</cp:lastModifiedBy>
  <dcterms:modified xsi:type="dcterms:W3CDTF">2011-10-27T13:40:20Z</dcterms:modified>
  <cp:revision>9</cp:revision>
  <dc:subject/>
  <dc:title>Slide 1</dc:title>
</cp:coreProperties>
</file>